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FC5-5909-4741-84C2-6D8645BE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9D4-4E35-49B0-8D02-307FFDFD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4AB9-E7D2-45CF-A460-BC8274D2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FF2-178B-4982-A95E-AE264003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A50-2FB4-47EC-9B04-920D3FB9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9DC6-B15B-442E-9847-2436ACF4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790-5B1F-4E2F-9E38-33FD3376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D94-D1B2-48D5-B673-2255F4BE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9D2-E718-47BE-83FA-AB5AF506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E04-3E22-4172-AB5C-95984209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59C-97F8-4821-98A0-AD67FF2D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6A1E-3A9C-4573-AEA2-DB3B55A9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83EF-2207-46E9-B93A-1574C60C260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9280" y="0"/>
            <a:ext cx="42498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ِ الشَّفِيع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َكرَم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بْنِك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َرْيَ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3645000"/>
            <a:ext cx="5410080" cy="321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أنت الشفيع الأكرم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59280" y="0"/>
            <a:ext cx="5760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ُزْتِ مَقَاماً في السما فوقَ الخَلائِقِ قَدْ سَما وَبَلَغْتِ في التقديسِ ما عَنْهُ الخَلائِقُ تُحْجِم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59280" y="0"/>
            <a:ext cx="42498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ِ الشَّفِيع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َكرَم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بْنِك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َرْيَ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27280" y="287280"/>
            <a:ext cx="6481800" cy="623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5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ِبْرِيلُ وافى الناصِرَة ببشارَةٍ لَكِ بَاهِرَة</a:t>
            </a:r>
            <a:br>
              <a:rPr sz="7500"/>
            </a:br>
            <a:r>
              <a:rPr b="1" lang="ar-SA" sz="7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الَ افْرَحِي يا طَاهِرَة</a:t>
            </a:r>
            <a:br>
              <a:rPr sz="7500"/>
            </a:br>
            <a:r>
              <a:rPr b="1" lang="ar-SA" sz="7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َلَكِ الهَنَاءُ الأَعْظَمُ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59280" y="0"/>
            <a:ext cx="42498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ِ الشَّفِيع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َكرَم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بْنِك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َرْيَ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76720" y="0"/>
            <a:ext cx="5832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ربُّ المَلائِكِ والبَشَر يُهْدِيكِ مَجْداً مُفْتَخَر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نَّ المَسيحُ المُنْتَظَر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ِنْ جِسْمِكِ يَتَجَسَّم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59280" y="0"/>
            <a:ext cx="42498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ِ الشَّفِيع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َكرَم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بْنِك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َرْيَ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6:32Z</dcterms:created>
  <dc:creator>Charbel Azar</dc:creator>
  <dc:description/>
  <dc:language>en-US</dc:language>
  <cp:lastModifiedBy>ف</cp:lastModifiedBy>
  <dcterms:modified xsi:type="dcterms:W3CDTF">2007-05-01T20:13:01Z</dcterms:modified>
  <cp:revision>23</cp:revision>
  <dc:subject/>
  <dc:title>PowerPoint Presentation</dc:title>
</cp:coreProperties>
</file>